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3.jpeg" ContentType="image/jpeg"/>
  <Override PartName="/ppt/media/image37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23.png" ContentType="image/png"/>
  <Override PartName="/ppt/media/image44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55.png" ContentType="image/png"/>
  <Override PartName="/ppt/media/image45.jpeg" ContentType="image/jpeg"/>
  <Override PartName="/ppt/media/image50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56.jpeg" ContentType="image/jpeg"/>
  <Override PartName="/ppt/media/image30.jpeg" ContentType="image/jpeg"/>
  <Override PartName="/ppt/media/image9.wmf" ContentType="image/x-wm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1.jpeg" ContentType="image/jpeg"/>
  <Override PartName="/ppt/media/image10.wmf" ContentType="image/x-wmf"/>
  <Override PartName="/ppt/media/image42.jpeg" ContentType="image/jpeg"/>
  <Override PartName="/ppt/media/image25.png" ContentType="image/png"/>
  <Override PartName="/ppt/media/image6.png" ContentType="image/pn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C342-4B36-411E-BCBC-89F03B58A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BBA9-FEF2-4E82-93B4-E87ED99E3CA3}" type="slidenum">
              <a:rPr b="1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BE4C-85AC-4551-894A-C04CC6B2ACF9}" type="slidenum">
              <a:rPr b="1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342C-2DBD-4A6D-B1F0-F5DE1CE8E10F}" type="slidenum">
              <a:rPr b="1" i="1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74C-3016-4BE1-B29D-D3D9F7B3B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8851-F357-43EE-B24B-C79EB5DB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8D5C5-122D-4EB7-8692-E8DF3491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BA675-0612-407F-AED1-3C74F7FF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2E8AD-8566-4C72-98E9-2DC48BC4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7923A-0D3C-45DE-B4EC-8AA0B7D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F4845-A2DB-4EAF-87FA-F31251D8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AF979-80F5-4B55-9C29-2DF8F1E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8A9F1-79B7-45F8-A351-FACDE0A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9DFB1-7810-43D1-AEC4-0218AE5E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D934-6E6B-4B40-B784-9E1F5E72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6C19-3A38-43F1-8310-0A2F7A80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CDD6-A3E9-43C4-8FDB-02AC1D04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CB676-0B7C-4AE9-BEF8-D6FACDEF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221D8-BD2B-4277-A299-E860B489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3546F-1B1B-436A-8D4A-DD824D8A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C5872-D1F5-456B-87E0-1099D591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95455-7EC7-4A1B-AC5B-E91C171A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822C0-4E42-4515-B541-B446D08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A9564-2666-455D-BE55-8626D38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4B25F-1F97-43CB-A6D9-899E6B0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3AE82-027F-4E2D-9F6F-D5790DA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4BCAA-CC5B-4A66-8FE7-7CBCA330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CDD-95BA-4217-827C-6DF28B0F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2A06C-1148-4C76-B037-947CFCB3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0A0A2-DCFF-4D85-8E7C-43E1215DC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FB608-9E7F-4373-A5FF-E7B812BF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B5ED-46AA-4479-9FB9-F1725A33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C6606-EC2E-484E-AFB9-09BD9D1E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D62BF-7F10-4B9F-A43B-6C1E7600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CE219-C9ED-4738-A868-D1EB62CB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5F04-C7E2-44DD-BDFA-DC03B00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078FE-0E5A-4C27-A896-9F78760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BF2CC-AE94-44CA-9C00-D10E55ED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4FC1-19D6-400A-930F-26E1E716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7AC82-05A8-42F3-803C-9ABB7F17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3380-5052-472C-941D-CB51236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88935-832D-4B0D-9DA4-938BF4B9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082F5-A4FC-46A3-9B8D-6A21B990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74D8A-621F-469A-A52A-D47429A6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CA66-7A14-4BC3-849B-B7DB9E68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8BF25-BB96-4E95-ABF8-937F8211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FA13A-17F3-4209-A711-55092D62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41CC6-5D0F-4236-A723-2CCCF017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644DC-2FAD-4D90-AEEA-170B6F4D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6A79-71F3-44AE-9FD9-C9511C76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93588-B051-4AD6-82BD-E866D19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5215AB-8F78-469C-B81F-2503A42F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73AF4-AE45-4312-B3F0-EA48ACAD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DA460-6857-4807-B7A7-C7826F8A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9E342-DF7C-420E-9422-5841B2DEB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FF98-EF95-406E-8B9E-7C01D77D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3B66-0407-4777-9C8C-4F52EF49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AC00-F5EA-4EC9-A994-EDBB99BC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084D-5F02-4766-8B30-2C77F40F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7940-1931-416F-A850-F680841C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EFF-38AE-4E95-83F6-18839B0E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5ED7-2F9E-430A-8DE1-9A2BE10B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E651-329B-4F40-8E0D-43D3FD46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A574-C65A-4843-900A-0DA18298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C8D6-9340-4284-A7EA-4D05B14A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4FC-873F-47DF-A61F-446964E8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159A4-FDD7-4495-8408-839C86E6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8E47-B13D-4D35-9D39-ECC23AFA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2913-1925-46DA-A5CD-C853EA54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2819A-A1E2-40F5-B030-D3412A13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C6B2-E94C-4DC5-8788-429A215F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A6C1-7501-42CA-9F3A-5346ED86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C33E-FE8E-42C7-9E32-F16C511E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6B513-BB35-4A82-89DB-04046348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6B5D-0559-47C3-B948-B2A7008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4BF3-4A25-4850-AA27-B7A12F93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99D5-62D1-4F5D-8B48-0AF9B594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10E2-3D50-40F4-B294-4E7C27A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58CAF-4654-44D6-B246-3A9F69E2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938F6-52C6-4C1B-985C-9C20E12E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3DFEE-40CF-432F-96CA-360C0F51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2100-7B7E-43AE-93E0-1D5D88E0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C0A-EE61-43D5-A53C-F6F4145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9FBF9-9B27-4C5B-9C8D-F085DEB3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40C18-1EA9-48BD-8332-5B4C8BC4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58A90-AA4B-4BA3-94C2-565F6F60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2492C-73AD-4836-A244-5483514A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70D53-9B8B-4E84-8728-8A8D94D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7E938-89B0-43A0-8777-32C30B70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4659D-9DFC-463D-B73A-D1AC4A0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CA4B8-D3C9-429F-804D-DEE82E73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F5228-EFF4-4B71-9515-438FFE2B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0923-9F3A-4B48-A2CA-7A1EB2A8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2FE-5965-451D-A025-80D65E8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9D8AB-129B-4F91-9B79-EEAFB17D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048B7-EF40-4162-B1B8-EFCA1B0E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0CFD-31D4-45C5-BFD1-20D2F44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ECE1D-77A7-40DA-8D4D-47165139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2EFD6-D984-4F32-8830-33E2FB06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F316-29EA-49F1-A92C-6112ACF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9454-6A1C-41DD-9A83-60074D67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335D2-385D-4B48-A3FA-ADDC0F26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74D31-14BC-479C-9367-D04CB480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293B7-3CA9-48BD-81A7-F19B9AFE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496-D2B7-4BFA-9583-1CDB8812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CAF3-306C-47CC-AFBA-A2857C7C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3ADDC-2369-427E-8580-1EECD61E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E7A11-9A44-492A-BAAD-92FCBB73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2A0D-72A5-4C00-915A-1FE2A06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70447-3250-4942-943C-E3C0D0F1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1D3C-E752-44FF-92EE-A8BCBACB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50800-5B71-4AB7-B70C-CD7C73AD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07A4-9F23-4F20-86B9-296CE500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EE7DF-F43A-4A0F-92C3-EA3AD40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B4741-C0C3-41B8-80EC-E411F2E6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428-1BF8-419B-85D7-EB370A9A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1FDD-FDD0-47B2-86D7-722119D4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25137-1E26-4598-83CF-0A656D46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25E09-1D80-4CCD-8421-BAE4DCBB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C8D007-5FF8-43C2-B80F-1EF5C3A6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BF7DE-6B1B-4C51-989F-9AD7B809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9BB9B-AFE1-4DDB-8FD3-90906BFE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4EB56-5345-4709-BC5B-513A05A4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651DE-264F-4F4C-95D1-4536AD6D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3B91A9-2E34-42CC-8845-10CDB9CC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8B086-EE7F-4390-99A1-F8EA8DD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994-AA02-4D82-97B0-8F2AC6E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3DFB0-A83A-46F9-A464-8D218FA0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B5E83-5E8E-401E-BA5B-63ABE718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53485C-C33F-4199-BE3A-981B6067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57417-59C3-43C6-A624-332E5E61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002D5-CB62-4173-B2D3-D0706898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5D78-5EF5-474E-A540-5836FB74E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D9053-5614-4DEC-816B-7C8D44EF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7D298-C774-4C45-8180-E764321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A03E0-B494-4734-9C73-FDA44A7B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AD6F0-6F25-4D88-898F-58F5D093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5CF-DA90-4EF0-AF3C-EC217094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9B60F-C4B9-4EAC-AE53-253EEFD8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E56CE-7F77-4CFC-923F-BEEC2F86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3A5BD-F0B3-43D4-8A95-ECA3230C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016F5-523A-4480-BF6D-1B6423A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7891-5EB3-429D-B5DB-1950FBC4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66E4-CE29-4B36-BB6C-A275CF2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DE80-8F50-4493-97FD-E83C8F4B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661A1-5CF4-4EDE-A508-C20D26F2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FA943-5F03-4B81-A6CC-D5550410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81B8C-BEA3-4D0F-AB8A-38FF2434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067A-A4B1-4760-9178-7257D83D79A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422-B606-4BA5-A8A4-5ACF333D1F5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19D7-F829-4E1F-83DC-00EB589CFF6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D0E0-58F8-4493-9080-D4DB2F9F4D0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42F6-F9CB-4C04-8135-5D1C33557F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CF3-7069-439A-8D03-A1939700CEF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3277-5A96-4A64-A668-B6518F81E60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0E61-9029-4EE9-ADB1-38E81053F14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7ECD-A40A-49C3-A27F-4503DE37614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D19A-AC0F-4E17-A772-38802FCA247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F8B-E34C-4D9B-8A4E-355D1C64B11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D35-FFBE-4BA8-8BDA-FAE2A7A2D31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14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Творческие задания по математик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«Математика и искусство»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080720" y="4642920"/>
            <a:ext cx="80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:  Афанасьев Леони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 «В»класс МБОУ СОШ №3 г. Ногинск М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Кирина Ольга Владими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Используя найденные ответы заполни текст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42560" y="1600200"/>
            <a:ext cx="64292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льянское сло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-40; 12; 45; 45; 77; 4; 4; 15) в переводе означает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ец. Ещё в эпоху Возрождения в Италии были распространены весёлые танцевальные сценки, исполнявшиеся на карнавале. Постепенно они превратились в самостоятельные танцевальные спектакли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3"/>
          <p:cNvSpPr/>
          <p:nvPr/>
        </p:nvSpPr>
        <p:spPr>
          <a:xfrm>
            <a:off x="6715080" y="2286000"/>
            <a:ext cx="207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Управляющая кнопка: далее 4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553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5" name="Picture 1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7962840" y="666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 время словом ( -40; 12; 45; 45; 77; 4; 4; 15) называется спектакль, в котором соединены музыка и танец, драматическое изобразительное искусств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8" name="Picture 7" descr="C:\Users\toshiba\Pictures\iCAJ6UGBI.jpg"/>
          <p:cNvPicPr/>
          <p:nvPr/>
        </p:nvPicPr>
        <p:blipFill>
          <a:blip r:embed="rId1"/>
          <a:stretch/>
        </p:blipFill>
        <p:spPr>
          <a:xfrm>
            <a:off x="5867280" y="4581360"/>
            <a:ext cx="3060720" cy="19004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2" descr="C:\Users\toshiba\Pictures\i (5).jpg"/>
          <p:cNvPicPr/>
          <p:nvPr/>
        </p:nvPicPr>
        <p:blipFill>
          <a:blip r:embed="rId2"/>
          <a:stretch/>
        </p:blipFill>
        <p:spPr>
          <a:xfrm>
            <a:off x="4211640" y="2565360"/>
            <a:ext cx="2367000" cy="2590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0" descr="C:\Users\toshiba\Pictures\iCATBJPOK.jpg"/>
          <p:cNvPicPr/>
          <p:nvPr/>
        </p:nvPicPr>
        <p:blipFill>
          <a:blip r:embed="rId3"/>
          <a:stretch/>
        </p:blipFill>
        <p:spPr>
          <a:xfrm>
            <a:off x="5796000" y="1197000"/>
            <a:ext cx="3060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Используя найденные ответы заполни текст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1643040"/>
            <a:ext cx="57862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льянское слово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letto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переводе означае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нец. Ещё в эпоху Возрождения в Италии были распространены весёлые танцевальные сценки, исполнявшиеся на карнавале. Постепенно они превратились в самостоятельные танцевальные спектакли. В наше время слово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lett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ывается спектакль, в котором соединены музыка и танец, драматическое изобразительное искусств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6715080" y="22860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5"/>
          <p:cNvSpPr/>
          <p:nvPr/>
        </p:nvSpPr>
        <p:spPr>
          <a:xfrm>
            <a:off x="6643800" y="300024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6"/>
          <p:cNvSpPr/>
          <p:nvPr/>
        </p:nvSpPr>
        <p:spPr>
          <a:xfrm>
            <a:off x="6643800" y="364320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7"/>
          <p:cNvSpPr/>
          <p:nvPr/>
        </p:nvSpPr>
        <p:spPr>
          <a:xfrm>
            <a:off x="6715080" y="42861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Прямоугольник 8"/>
          <p:cNvSpPr/>
          <p:nvPr/>
        </p:nvSpPr>
        <p:spPr>
          <a:xfrm>
            <a:off x="6715080" y="485784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9"/>
          <p:cNvSpPr/>
          <p:nvPr/>
        </p:nvSpPr>
        <p:spPr>
          <a:xfrm>
            <a:off x="6707160" y="55008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9" name="Управляющая кнопка: далее 12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570" name="Управляющая кнопка: далее 12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2" name="Picture 2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7962840" y="176040"/>
            <a:ext cx="1023840" cy="16812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C:\Users\toshiba\Pictures\i (9).jpg"/>
          <p:cNvPicPr/>
          <p:nvPr/>
        </p:nvPicPr>
        <p:blipFill>
          <a:blip r:embed="rId3"/>
          <a:stretch/>
        </p:blipFill>
        <p:spPr>
          <a:xfrm>
            <a:off x="7164360" y="1052640"/>
            <a:ext cx="17622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68 -0.00602 C -0.09895 -0.01666 -0.10694 -0.04375 -0.11701 -0.06157 C -0.12066 -0.07477 -0.12326 -0.08865 -0.1276 -0.10139 C -0.13073 -0.11065 -0.13489 -0.11921 -0.13836 -0.12824 C -0.1401 -0.1324 -0.14323 -0.14097 -0.14323 -0.14097 C -0.15017 -0.19027 -0.1677 -0.23611 -0.17534 -0.28541 C -0.17916 -0.33565 -0.17656 -0.38495 -0.15746 -0.42824 C -0.15468 -0.44282 -0.15677 -0.43727 -0.1526 -0.44583 C -0.15139 -0.45347 -0.14913 -0.45694 -0.14548 -0.46319 C -0.14375 -0.4699 -0.13871 -0.4787 -0.13489 -0.48379 C -0.13246 -0.49328 -0.13541 -0.48426 -0.12882 -0.4949 C -0.12673 -0.49838 -0.12291 -0.50602 -0.12291 -0.50602 C -0.11666 -0.53125 -0.11823 -0.53125 -0.11823 -0.56805 E">
                                      <p:cBhvr>
                                        <p:cTn id="157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C -0.01406 -0.00417 -0.02379 -0.01227 -0.03507 -0.02037 C -0.03993 -0.03843 -0.04913 -0.06019 -0.06181 -0.07362 C -0.06302 -0.07686 -0.06389 -0.08033 -0.06493 -0.0838 C -0.06684 -0.08959 -0.07274 -0.09051 -0.07274 -0.09653 E">
                                      <p:cBhvr>
                                        <p:cTn id="159" dur="30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4.07407E-006 C -0.00694 -0.00348 -0.00885 -0.00672 -0.01233 -0.00973 C -0.01788 -0.01482 -0.02622 -0.01875 -0.03073 -0.02431 C -0.04601 -0.04074 -0.06042 -0.05718 -0.07622 -0.07338 C -0.08368 -0.08102 -0.09115 -0.08588 -0.09705 -0.09422 C -0.10851 -0.11042 -0.11684 -0.12686 -0.13177 -0.1419 C -0.13576 -0.15394 -0.14271 -0.16181 -0.14757 -0.17362 C -0.15451 -0.18889 -0.16007 -0.20394 -0.16337 -0.21968 C -0.16042 -0.24699 -0.15104 -0.26713 -0.12934 -0.29121 C -0.12031 -0.3007 -0.11198 -0.31019 -0.1026 -0.31968 C -0.09948 -0.32246 -0.09462 -0.32755 -0.09462 -0.32732 C -0.08924 -0.34005 -0.07535 -0.35348 -0.0599 -0.36274 C -0.05156 -0.37315 -0.03906 -0.38449 -0.02517 -0.39283 C -0.01979 -0.41204 0.00208 -0.44862 -0.03611 -0.45625 C -0.03767 -0.45787 -0.04115 -0.46088 -0.04115 -0.46065 E">
                                      <p:cBhvr>
                                        <p:cTn id="161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-2.59259E-006 C 0.01892 -0.00324 0.02152 -0.01227 0.02621 -0.01736 C 0.02777 -0.03078 0.03541 -0.04907 0.03923 -0.05995 C 0.04618 -0.07963 0.05052 -0.1 0.05243 -0.12291 C 0.05347 -0.15046 0.0533 -0.17708 0.05156 -0.20463 C 0.05052 -0.22106 0.05104 -0.23727 0.05 -0.2537 C 0.04948 -0.25949 0.04514 -0.26227 0.04288 -0.26458 C 0.03472 -0.27268 0.03472 -0.27523 0.02517 -0.27731 C 0.0243 -0.27778 0.02326 -0.27778 0.02257 -0.27893 C 0.01892 -0.28379 0.02222 -0.28356 0.01996 -0.28356 E">
                                      <p:cBhvr>
                                        <p:cTn id="163" dur="3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674 -0.00023 C 0.03108 -0.01227 0.02569 0.00255 0.03229 -0.01203 C 0.03663 -0.02129 0.03958 -0.03171 0.04427 -0.04051 C 0.05052 -0.0699 0.04323 -0.03889 0.05069 -0.06389 C 0.05955 -0.09444 0.04705 -0.05532 0.05608 -0.08865 C 0.06007 -0.10347 0.06632 -0.1206 0.07274 -0.13217 C 0.07535 -0.14213 0.0776 -0.15115 0.0809 -0.16041 C 0.08455 -0.18611 0.08872 -0.20926 0.09566 -0.2324 C 0.10122 -0.25162 0.09635 -0.24328 0.10295 -0.25231 C 0.10816 -0.26713 0.1092 -0.27014 0.11215 -0.28426 C 0.11563 -0.31898 0.11753 -0.36458 0.09566 -0.37754 C 0.08594 -0.37662 0.075 -0.37708 0.06545 -0.37245 C 0.06111 -0.37315 0.05677 -0.3743 0.05243 -0.3743 C 0.05069 -0.3743 0.04705 -0.37592 0.04705 -0.37245 C 0.04705 -0.36921 0.05069 -0.37245 0.05243 -0.37245 E">
                                      <p:cBhvr>
                                        <p:cTn id="165" dur="3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4.07407E-006 C 0.00989 -0.00394 0.01197 -0.00648 0.02031 -0.01435 C 0.02916 -0.02269 0.0394 -0.02871 0.04774 -0.0382 C 0.06197 -0.0544 0.07673 -0.07176 0.09287 -0.08426 C 0.09774 -0.09213 0.10294 -0.09769 0.10833 -0.10486 C 0.10937 -0.10625 0.10989 -0.1081 0.11076 -0.10949 C 0.11215 -0.11181 0.11371 -0.11389 0.11544 -0.11597 C 0.12274 -0.12431 0.11805 -0.11667 0.12378 -0.12546 C 0.12621 -0.12917 0.12881 -0.13264 0.13107 -0.13658 C 0.13506 -0.14352 0.13541 -0.14954 0.14044 -0.15394 C 0.14183 -0.16158 0.14513 -0.16621 0.14774 -0.17315 C 0.14565 -0.18658 0.14235 -0.18357 0.13454 -0.19051 C 0.12864 -0.19005 0.10277 -0.1831 0.09652 -0.19213 E">
                                      <p:cBhvr>
                                        <p:cTn id="167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341000"/>
            <a:ext cx="3657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названий позиций в балете используются порядковые числительные на французском языке. Выполни вычисления. Используя найденные ответы и данные таблицы, соотнеси порядковые номера балетных позиций и их французские наз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Скругленная прямоугольная выноска 3" descr=""/>
          <p:cNvPicPr/>
          <p:nvPr/>
        </p:nvPicPr>
        <p:blipFill>
          <a:blip r:embed="rId1"/>
          <a:stretch/>
        </p:blipFill>
        <p:spPr>
          <a:xfrm>
            <a:off x="5761080" y="5834160"/>
            <a:ext cx="2608200" cy="968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6" descr="C:\Users\toshiba\Pictures\i (10).jpg"/>
          <p:cNvPicPr/>
          <p:nvPr/>
        </p:nvPicPr>
        <p:blipFill>
          <a:blip r:embed="rId2"/>
          <a:stretch/>
        </p:blipFill>
        <p:spPr>
          <a:xfrm>
            <a:off x="5292720" y="3573360"/>
            <a:ext cx="2390760" cy="19083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7" descr="C:\Users\toshiba\Pictures\i (11).jpg"/>
          <p:cNvPicPr/>
          <p:nvPr/>
        </p:nvPicPr>
        <p:blipFill>
          <a:blip r:embed="rId3"/>
          <a:stretch/>
        </p:blipFill>
        <p:spPr>
          <a:xfrm>
            <a:off x="5651640" y="1484280"/>
            <a:ext cx="1492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Picture 4" descr="C:\Users\toshiba\Pictures\i (1).jpg"/>
          <p:cNvPicPr/>
          <p:nvPr/>
        </p:nvPicPr>
        <p:blipFill>
          <a:blip r:embed="rId11"/>
          <a:stretch/>
        </p:blipFill>
        <p:spPr>
          <a:xfrm>
            <a:off x="6372360" y="486900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Содержимое 2"/>
          <p:cNvSpPr/>
          <p:nvPr/>
        </p:nvSpPr>
        <p:spPr>
          <a:xfrm>
            <a:off x="45720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/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Блок-схема: альтернативный процесс 4"/>
          <p:cNvGrpSpPr/>
          <p:nvPr/>
        </p:nvGrpSpPr>
        <p:grpSpPr>
          <a:xfrm>
            <a:off x="6686640" y="1116000"/>
            <a:ext cx="684000" cy="901800"/>
            <a:chOff x="6686640" y="1116000"/>
            <a:chExt cx="684000" cy="901800"/>
          </a:xfrm>
        </p:grpSpPr>
        <p:pic>
          <p:nvPicPr>
            <p:cNvPr id="583" name="Блок-схема: альтернативный процесс 4" descr=""/>
            <p:cNvPicPr/>
            <p:nvPr/>
          </p:nvPicPr>
          <p:blipFill>
            <a:blip r:embed="rId11"/>
            <a:stretch/>
          </p:blipFill>
          <p:spPr>
            <a:xfrm>
              <a:off x="6686640" y="1116000"/>
              <a:ext cx="6840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6810480" y="1238400"/>
              <a:ext cx="4521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Содержимое 2"/>
          <p:cNvSpPr/>
          <p:nvPr/>
        </p:nvSpPr>
        <p:spPr>
          <a:xfrm>
            <a:off x="45720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/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Блок-схема: альтернативный процесс 4"/>
          <p:cNvGrpSpPr/>
          <p:nvPr/>
        </p:nvGrpSpPr>
        <p:grpSpPr>
          <a:xfrm>
            <a:off x="6686640" y="1116000"/>
            <a:ext cx="684000" cy="1548000"/>
            <a:chOff x="6686640" y="1116000"/>
            <a:chExt cx="684000" cy="1548000"/>
          </a:xfrm>
        </p:grpSpPr>
        <p:pic>
          <p:nvPicPr>
            <p:cNvPr id="587" name="Блок-схема: альтернативный процесс 4" descr=""/>
            <p:cNvPicPr/>
            <p:nvPr/>
          </p:nvPicPr>
          <p:blipFill>
            <a:blip r:embed="rId11"/>
            <a:stretch/>
          </p:blipFill>
          <p:spPr>
            <a:xfrm>
              <a:off x="6686640" y="1116000"/>
              <a:ext cx="68400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6810480" y="1238400"/>
              <a:ext cx="452160" cy="13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Содержимое 2"/>
          <p:cNvSpPr/>
          <p:nvPr/>
        </p:nvSpPr>
        <p:spPr>
          <a:xfrm>
            <a:off x="45720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Блок-схема: альтернативный процесс 5"/>
          <p:cNvGrpSpPr/>
          <p:nvPr/>
        </p:nvGrpSpPr>
        <p:grpSpPr>
          <a:xfrm>
            <a:off x="6686640" y="1116000"/>
            <a:ext cx="684000" cy="2187720"/>
            <a:chOff x="6686640" y="1116000"/>
            <a:chExt cx="684000" cy="2187720"/>
          </a:xfrm>
        </p:grpSpPr>
        <p:pic>
          <p:nvPicPr>
            <p:cNvPr id="591" name="Блок-схема: альтернативный процесс 5" descr=""/>
            <p:cNvPicPr/>
            <p:nvPr/>
          </p:nvPicPr>
          <p:blipFill>
            <a:blip r:embed="rId11"/>
            <a:stretch/>
          </p:blipFill>
          <p:spPr>
            <a:xfrm>
              <a:off x="6686640" y="1116000"/>
              <a:ext cx="68400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810480" y="1238400"/>
              <a:ext cx="4521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Содержимое 2"/>
          <p:cNvSpPr/>
          <p:nvPr/>
        </p:nvSpPr>
        <p:spPr>
          <a:xfrm>
            <a:off x="45720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4" name="Блок-схема: альтернативный процесс 4"/>
          <p:cNvGrpSpPr/>
          <p:nvPr/>
        </p:nvGrpSpPr>
        <p:grpSpPr>
          <a:xfrm>
            <a:off x="6686640" y="1116000"/>
            <a:ext cx="684000" cy="2760840"/>
            <a:chOff x="6686640" y="1116000"/>
            <a:chExt cx="684000" cy="2760840"/>
          </a:xfrm>
        </p:grpSpPr>
        <p:pic>
          <p:nvPicPr>
            <p:cNvPr id="595" name="Блок-схема: альтернативный процесс 4" descr=""/>
            <p:cNvPicPr/>
            <p:nvPr/>
          </p:nvPicPr>
          <p:blipFill>
            <a:blip r:embed="rId11"/>
            <a:stretch/>
          </p:blipFill>
          <p:spPr>
            <a:xfrm>
              <a:off x="6686640" y="1116000"/>
              <a:ext cx="684000" cy="276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6810480" y="1238400"/>
              <a:ext cx="452160" cy="25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Содержимое 2"/>
          <p:cNvSpPr/>
          <p:nvPr/>
        </p:nvSpPr>
        <p:spPr>
          <a:xfrm>
            <a:off x="45720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2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0 = 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" action="ppaction://hlinksldjump"/>
              </a:rPr>
              <a:t>8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2" action="ppaction://hlinksldjump"/>
              </a:rPr>
              <a:t>0,8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10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60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3" action="ppaction://hlinksldjump"/>
              </a:rPr>
              <a:t>1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4" action="ppaction://hlinksldjump"/>
              </a:rPr>
              <a:t>1,5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,4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5" action="ppaction://hlinksldjump"/>
              </a:rPr>
              <a:t>166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6" action="ppaction://hlinksldjump"/>
              </a:rPr>
              <a:t>16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1/7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,5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7" action="ppaction://hlinksldjump"/>
              </a:rPr>
              <a:t>4/7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8" action="ppaction://hlinksldjump"/>
              </a:rPr>
              <a:t>45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7/9 -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: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=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9" action="ppaction://hlinksldjump"/>
              </a:rPr>
              <a:t>1 1/6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3000" spc="-1" strike="noStrike" u="sng">
                <a:solidFill>
                  <a:srgbClr val="00c8c3"/>
                </a:solidFill>
                <a:uFillTx/>
                <a:latin typeface="Arial"/>
                <a:hlinkClick r:id="rId10" action="ppaction://hlinksldjump"/>
              </a:rPr>
              <a:t>2</a:t>
            </a:r>
            <a:endParaRPr b="1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Блок-схема: альтернативный процесс 4"/>
          <p:cNvGrpSpPr/>
          <p:nvPr/>
        </p:nvGrpSpPr>
        <p:grpSpPr>
          <a:xfrm>
            <a:off x="6686640" y="1116000"/>
            <a:ext cx="684000" cy="3260880"/>
            <a:chOff x="6686640" y="1116000"/>
            <a:chExt cx="684000" cy="3260880"/>
          </a:xfrm>
        </p:grpSpPr>
        <p:pic>
          <p:nvPicPr>
            <p:cNvPr id="599" name="Блок-схема: альтернативный процесс 4" descr=""/>
            <p:cNvPicPr/>
            <p:nvPr/>
          </p:nvPicPr>
          <p:blipFill>
            <a:blip r:embed="rId11"/>
            <a:stretch/>
          </p:blipFill>
          <p:spPr>
            <a:xfrm>
              <a:off x="6686640" y="1116000"/>
              <a:ext cx="684000" cy="32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6810480" y="1238400"/>
              <a:ext cx="452160" cy="30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01" name="Скругленная прямоугольная выноска 5" descr=""/>
          <p:cNvPicPr/>
          <p:nvPr/>
        </p:nvPicPr>
        <p:blipFill>
          <a:blip r:embed="rId12"/>
          <a:stretch/>
        </p:blipFill>
        <p:spPr>
          <a:xfrm>
            <a:off x="3187800" y="5187960"/>
            <a:ext cx="3475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6840" y="476280"/>
            <a:ext cx="7467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уроках алгебры и геометрии нам не хватает времени, чтобы больше узнать о роли математических наук в жизни человека и их связи с различными областями жизнедеятельности, об истории возникновении и развитии этой науки, ученых и их достижениях. В результате мы часто задаемся вопросом: «Зачем мы изучаем математику? Какое место в нашей жизни она занимает?» 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ряду с формированием математических знаний, задания ,представленные в презентации, помогают развивать логическое мышление, интерес к предмету, расширять кругозор, узнавая интересные факты из других областей знаний и получая эту информацию посредством матема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заданий позволяет  учащихся  , пополнить лексический запас новыми терминами, узнать об их этимологическом происхождении, получить дополнительную информацию об окружающе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26427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шибка!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03" name="Управляющая кнопка: в начало 3"/>
          <p:cNvGrpSpPr/>
          <p:nvPr/>
        </p:nvGrpSpPr>
        <p:grpSpPr>
          <a:xfrm>
            <a:off x="4260960" y="3614760"/>
            <a:ext cx="1042920" cy="1049400"/>
            <a:chOff x="4260960" y="3614760"/>
            <a:chExt cx="1042920" cy="1049400"/>
          </a:xfrm>
        </p:grpSpPr>
        <p:pic>
          <p:nvPicPr>
            <p:cNvPr id="604" name="Управляющая кнопка: в начало 3" descr="">
              <a:hlinkClick r:id="" action="ppaction://hlinkshowjump?jump=previousslide"/>
            </p:cNvPr>
            <p:cNvPicPr/>
            <p:nvPr/>
          </p:nvPicPr>
          <p:blipFill>
            <a:blip r:embed="rId1"/>
            <a:stretch/>
          </p:blipFill>
          <p:spPr>
            <a:xfrm>
              <a:off x="4260960" y="3614760"/>
              <a:ext cx="1042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4357800" y="3714840"/>
              <a:ext cx="85716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20160" cy="29862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2"/>
          <a:stretch/>
        </p:blipFill>
        <p:spPr>
          <a:xfrm>
            <a:off x="500040" y="3571920"/>
            <a:ext cx="8143920" cy="2984400"/>
          </a:xfrm>
          <a:prstGeom prst="rect">
            <a:avLst/>
          </a:prstGeom>
          <a:ln w="0">
            <a:noFill/>
          </a:ln>
        </p:spPr>
      </p:pic>
      <p:grpSp>
        <p:nvGrpSpPr>
          <p:cNvPr id="608" name="Управляющая кнопка: далее 6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609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1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менитые театры ми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1808 г. первый театр Ковент-Гарде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иверпульский театр Empire Theat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Мариинский теат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липарт, театр в Вене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3" descr="H:\В 1808 г. первый театр Ковент-Гарден был уничтожен пожаром..jpeg"/>
          <p:cNvPicPr/>
          <p:nvPr/>
        </p:nvPicPr>
        <p:blipFill>
          <a:blip r:embed="rId1"/>
          <a:stretch/>
        </p:blipFill>
        <p:spPr>
          <a:xfrm>
            <a:off x="6443640" y="1197000"/>
            <a:ext cx="21430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614" name="Управляющая кнопка: далее 6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615" name="Управляющая кнопка: далее 6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17" name="Picture 2" descr="H:\Главное здание Мариинского театра.jpeg"/>
          <p:cNvPicPr/>
          <p:nvPr/>
        </p:nvPicPr>
        <p:blipFill>
          <a:blip r:embed="rId3"/>
          <a:stretch/>
        </p:blipFill>
        <p:spPr>
          <a:xfrm>
            <a:off x="6300720" y="3284640"/>
            <a:ext cx="2143080" cy="15285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H:\В ливерпульском театре Empire Theatre.jpeg"/>
          <p:cNvPicPr/>
          <p:nvPr/>
        </p:nvPicPr>
        <p:blipFill>
          <a:blip r:embed="rId4"/>
          <a:stretch/>
        </p:blipFill>
        <p:spPr>
          <a:xfrm>
            <a:off x="4572000" y="2205000"/>
            <a:ext cx="2085840" cy="13860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H:\Клипарт Театр в Венеции..jpeg"/>
          <p:cNvPicPr/>
          <p:nvPr/>
        </p:nvPicPr>
        <p:blipFill>
          <a:blip r:embed="rId5"/>
          <a:stretch/>
        </p:blipFill>
        <p:spPr>
          <a:xfrm>
            <a:off x="4427640" y="4437000"/>
            <a:ext cx="214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менитые театры мир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Ла Скала - один из самых известнейших театров мир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Национальный театр в Загребе известен на весь ми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ой теа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2" name="Picture 2" descr="H:\Ла Скала - один из самых известнейших театров мира..jpeg"/>
          <p:cNvPicPr/>
          <p:nvPr/>
        </p:nvPicPr>
        <p:blipFill>
          <a:blip r:embed="rId1"/>
          <a:stretch/>
        </p:blipFill>
        <p:spPr>
          <a:xfrm>
            <a:off x="4788000" y="1413000"/>
            <a:ext cx="2143080" cy="1571400"/>
          </a:xfrm>
          <a:prstGeom prst="rect">
            <a:avLst/>
          </a:prstGeom>
          <a:ln w="0">
            <a:noFill/>
          </a:ln>
        </p:spPr>
      </p:pic>
      <p:grpSp>
        <p:nvGrpSpPr>
          <p:cNvPr id="623" name="Управляющая кнопка: далее 4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624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26" name="Picture 2" descr="H:\Национальный театр в Загребе известен на весь мир..jpeg"/>
          <p:cNvPicPr/>
          <p:nvPr/>
        </p:nvPicPr>
        <p:blipFill>
          <a:blip r:embed="rId3"/>
          <a:stretch/>
        </p:blipFill>
        <p:spPr>
          <a:xfrm>
            <a:off x="6659640" y="3141720"/>
            <a:ext cx="2008080" cy="15825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9" descr="C:\Users\toshiba\Pictures\i (12).jpg"/>
          <p:cNvPicPr/>
          <p:nvPr/>
        </p:nvPicPr>
        <p:blipFill>
          <a:blip r:embed="rId4"/>
          <a:stretch/>
        </p:blipFill>
        <p:spPr>
          <a:xfrm>
            <a:off x="4284720" y="4365720"/>
            <a:ext cx="21589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i-main-pic" descr="Картинка 1 из 365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</a:rPr>
              <a:t>Большой театр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0" name="WordArt 10"/>
          <p:cNvSpPr txBox="1"/>
          <p:nvPr/>
        </p:nvSpPr>
        <p:spPr>
          <a:xfrm>
            <a:off x="5105520" y="57150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24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Franklin Gothic Book"/>
              </a:rPr>
              <a:t>Правила знаков  при умножении и </a:t>
            </a:r>
            <a:r>
              <a:rPr b="0" lang="en-GB" sz="3200" spc="-1" strike="noStrike">
                <a:solidFill>
                  <a:srgbClr val="ffc000"/>
                </a:solidFill>
                <a:latin typeface="Franklin Gothic Book"/>
              </a:rPr>
              <a:t>     </a:t>
            </a:r>
            <a:r>
              <a:rPr b="0" lang="ru-RU" sz="3200" spc="-1" strike="noStrike">
                <a:solidFill>
                  <a:srgbClr val="ffc000"/>
                </a:solidFill>
                <a:latin typeface="Franklin Gothic Book"/>
              </a:rPr>
              <a:t>делении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Franklin Gothic Book"/>
              </a:rPr>
              <a:t>Действия со степеням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39120" indent="-309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+ ∙ + = 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+ ∙  -  = 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- ∙ +  = 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-  ∙ -  = 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+ : + = 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+ : - =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- : + = -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- : - = 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120" indent="-309960">
              <a:spcBef>
                <a:spcPts val="49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n </a:t>
            </a:r>
            <a:r>
              <a:rPr b="1" lang="ru-RU" sz="2600" spc="-1" strike="noStrike">
                <a:solidFill>
                  <a:srgbClr val="ffc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ru-RU" sz="2600" spc="-1" strike="noStrike" baseline="30000">
                <a:solidFill>
                  <a:srgbClr val="ffc000"/>
                </a:solidFill>
                <a:latin typeface="Arial"/>
              </a:rPr>
              <a:t>+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: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n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-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(ab)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b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(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)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n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(a:b)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 : b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 1(a ≠ 0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: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 =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-m </a:t>
            </a: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=  1/ a</a:t>
            </a:r>
            <a:r>
              <a:rPr b="1" lang="en-US" sz="2600" spc="-1" strike="noStrike" baseline="30000">
                <a:solidFill>
                  <a:srgbClr val="ffc000"/>
                </a:solidFill>
                <a:latin typeface="Arial"/>
              </a:rPr>
              <a:t>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меть знаком + правильные неравенства и ты получишь фамилию архитектора проектировавшего Большой теат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 (-15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¹º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  0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3,2)¹³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4,1¹² &lt;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–(-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(-6,5)²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-8,4)³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3,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-3,4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7)¹º¹ · (-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¹ &lt; 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1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³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imes New Roman"/>
              </a:rPr>
              <a:t>Проверь себя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 (-15)¹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º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3,2)¹³&g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4,1¹² &l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(-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³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6,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 &gt; (-8,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³ 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3,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 &gt; -3,4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7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¹º¹ · (-8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¹ &lt; 0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-1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³&lt; 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5" descr="j0301252"/>
          <p:cNvPicPr/>
          <p:nvPr/>
        </p:nvPicPr>
        <p:blipFill>
          <a:blip r:embed="rId1"/>
          <a:stretch/>
        </p:blipFill>
        <p:spPr>
          <a:xfrm>
            <a:off x="5867280" y="228600"/>
            <a:ext cx="2897280" cy="2478240"/>
          </a:xfrm>
          <a:prstGeom prst="rect">
            <a:avLst/>
          </a:prstGeom>
          <a:ln w="0">
            <a:noFill/>
          </a:ln>
        </p:spPr>
      </p:pic>
      <p:pic>
        <p:nvPicPr>
          <p:cNvPr id="638" name="i-main-pic" descr="Картинка 14 из 841"/>
          <p:cNvPicPr/>
          <p:nvPr/>
        </p:nvPicPr>
        <p:blipFill>
          <a:blip r:embed="rId2"/>
          <a:stretch/>
        </p:blipFill>
        <p:spPr>
          <a:xfrm>
            <a:off x="4786200" y="1928880"/>
            <a:ext cx="2667240" cy="3398760"/>
          </a:xfrm>
          <a:prstGeom prst="rect">
            <a:avLst/>
          </a:prstGeom>
          <a:ln w="0">
            <a:noFill/>
          </a:ln>
        </p:spPr>
      </p:pic>
      <p:sp>
        <p:nvSpPr>
          <p:cNvPr id="639" name="Прямоугольник 6"/>
          <p:cNvSpPr/>
          <p:nvPr/>
        </p:nvSpPr>
        <p:spPr>
          <a:xfrm>
            <a:off x="4572000" y="564372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ип Иванович Бове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-360" y="620280"/>
            <a:ext cx="4716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1814 году архитектором центра города был назначен Осип Бове, урожденный петербуржец, творческая жизнь которого была неразрывно связана с Москвой. Здесь c 1802 по 1807 гг. он учился в архитектурной школе при Экспедиции кремлевского строения, позже являлся помощником выдающихся зодчих М. Казакова и К. Росси. Под его началом было создано «Собрание типовых фасадов» — своеобразное пособие городского застройщика, и на основе этого справочника Москва стала застраиваться по-новому: городские особняки уже не прятались в глубине двора, а выходили фасадами на красную линию ул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i-main-pic" descr="Картинка 62 из 36558"/>
          <p:cNvPicPr/>
          <p:nvPr/>
        </p:nvPicPr>
        <p:blipFill>
          <a:blip r:embed="rId1"/>
          <a:stretch/>
        </p:blipFill>
        <p:spPr>
          <a:xfrm>
            <a:off x="5292720" y="4221000"/>
            <a:ext cx="3527280" cy="2368800"/>
          </a:xfrm>
          <a:prstGeom prst="rect">
            <a:avLst/>
          </a:prstGeom>
          <a:ln w="0">
            <a:noFill/>
          </a:ln>
        </p:spPr>
      </p:pic>
      <p:pic>
        <p:nvPicPr>
          <p:cNvPr id="643" name="Рисунок 5" descr="http://www.m-mos.ru/12/pic/bg_02.jpg"/>
          <p:cNvPicPr/>
          <p:nvPr/>
        </p:nvPicPr>
        <p:blipFill>
          <a:blip r:embed="rId2"/>
          <a:stretch/>
        </p:blipFill>
        <p:spPr>
          <a:xfrm>
            <a:off x="5364000" y="189000"/>
            <a:ext cx="3459240" cy="20876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C:\Users\toshiba\Pictures\i (13).jpg"/>
          <p:cNvPicPr/>
          <p:nvPr/>
        </p:nvPicPr>
        <p:blipFill>
          <a:blip r:embed="rId3"/>
          <a:stretch/>
        </p:blipFill>
        <p:spPr>
          <a:xfrm>
            <a:off x="6943680" y="2205000"/>
            <a:ext cx="2200320" cy="2143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C:\Users\toshiba\Pictures\i (14).jpg"/>
          <p:cNvPicPr/>
          <p:nvPr/>
        </p:nvPicPr>
        <p:blipFill>
          <a:blip r:embed="rId4"/>
          <a:stretch/>
        </p:blipFill>
        <p:spPr>
          <a:xfrm>
            <a:off x="4932360" y="2205000"/>
            <a:ext cx="187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его проектам были также созданы здания Манежа и Триумфальные ворота, а также проект Александровского са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Рисунок 274" descr="http://www.hramy.ru/zodchiy/bove04.jpg"/>
          <p:cNvPicPr/>
          <p:nvPr/>
        </p:nvPicPr>
        <p:blipFill>
          <a:blip r:embed="rId1"/>
          <a:stretch/>
        </p:blipFill>
        <p:spPr>
          <a:xfrm>
            <a:off x="4859280" y="981000"/>
            <a:ext cx="3600360" cy="2051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C:\Users\toshiba\Pictures\i (28).jpg"/>
          <p:cNvPicPr/>
          <p:nvPr/>
        </p:nvPicPr>
        <p:blipFill>
          <a:blip r:embed="rId2"/>
          <a:stretch/>
        </p:blipFill>
        <p:spPr>
          <a:xfrm>
            <a:off x="755640" y="414972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C:\Users\toshiba\Pictures\i (33).jpg"/>
          <p:cNvPicPr/>
          <p:nvPr/>
        </p:nvPicPr>
        <p:blipFill>
          <a:blip r:embed="rId3"/>
          <a:stretch/>
        </p:blipFill>
        <p:spPr>
          <a:xfrm>
            <a:off x="5940360" y="4365720"/>
            <a:ext cx="2592360" cy="18716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C:\Users\toshiba\Pictures\i (32).jpg"/>
          <p:cNvPicPr/>
          <p:nvPr/>
        </p:nvPicPr>
        <p:blipFill>
          <a:blip r:embed="rId4"/>
          <a:stretch/>
        </p:blipFill>
        <p:spPr>
          <a:xfrm>
            <a:off x="4211640" y="2997360"/>
            <a:ext cx="246528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алет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ольшой театр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24" name="Picture 3" descr="C:\Users\toshiba\Pictures\i (39).jpg"/>
          <p:cNvPicPr/>
          <p:nvPr/>
        </p:nvPicPr>
        <p:blipFill>
          <a:blip r:embed="rId1"/>
          <a:stretch/>
        </p:blipFill>
        <p:spPr>
          <a:xfrm>
            <a:off x="3059280" y="2276640"/>
            <a:ext cx="2952720" cy="20890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C:\Users\toshiba\Pictures\i (2).jpg"/>
          <p:cNvPicPr/>
          <p:nvPr/>
        </p:nvPicPr>
        <p:blipFill>
          <a:blip r:embed="rId2"/>
          <a:stretch/>
        </p:blipFill>
        <p:spPr>
          <a:xfrm>
            <a:off x="250920" y="4365720"/>
            <a:ext cx="2881080" cy="2087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C:\Users\toshiba\Pictures\i (41).jpg"/>
          <p:cNvPicPr/>
          <p:nvPr/>
        </p:nvPicPr>
        <p:blipFill>
          <a:blip r:embed="rId3"/>
          <a:stretch/>
        </p:blipFill>
        <p:spPr>
          <a:xfrm>
            <a:off x="6012000" y="333360"/>
            <a:ext cx="273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0" y="476280"/>
            <a:ext cx="4114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руководством Бове в центре Москвы была проведена реконструкция Красной площади, архитектурный декор Манежа и фасадов Торговых рядов напротив Кремля (к сожалению, они не сохранились), разбит Александровский сад с гротом, создана Театральная площад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самый большой успех Осипу Бове принесло сооружение в стиле ампир Петровского театра, который, по словам современников, «как феникс из развалин возвысил стены свои в новом блеске и великолепии»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i-main-pic" descr="Картинка 6 из 36558"/>
          <p:cNvPicPr/>
          <p:nvPr/>
        </p:nvPicPr>
        <p:blipFill>
          <a:blip r:embed="rId1"/>
          <a:stretch/>
        </p:blipFill>
        <p:spPr>
          <a:xfrm>
            <a:off x="4932360" y="4437000"/>
            <a:ext cx="3024360" cy="20257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5" descr="C:\Users\toshiba\Pictures\i (17).jpg"/>
          <p:cNvPicPr/>
          <p:nvPr/>
        </p:nvPicPr>
        <p:blipFill>
          <a:blip r:embed="rId2"/>
          <a:stretch/>
        </p:blipFill>
        <p:spPr>
          <a:xfrm>
            <a:off x="5757840" y="0"/>
            <a:ext cx="3386160" cy="21430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7" descr="C:\Users\toshiba\Pictures\i (15).jpg"/>
          <p:cNvPicPr/>
          <p:nvPr/>
        </p:nvPicPr>
        <p:blipFill>
          <a:blip r:embed="rId3"/>
          <a:stretch/>
        </p:blipFill>
        <p:spPr>
          <a:xfrm>
            <a:off x="4140360" y="1557360"/>
            <a:ext cx="3214440" cy="2143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8" descr="C:\Users\toshiba\Pictures\i (19).jpg"/>
          <p:cNvPicPr/>
          <p:nvPr/>
        </p:nvPicPr>
        <p:blipFill>
          <a:blip r:embed="rId4"/>
          <a:stretch/>
        </p:blipFill>
        <p:spPr>
          <a:xfrm>
            <a:off x="6875640" y="2565360"/>
            <a:ext cx="1944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0" y="836280"/>
            <a:ext cx="5364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ве принадлежит великолепное художественное оформление внутренних интерьеров и многоярусного, пышно декорированного зрительного зала театра. 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ржественное открытие театра, получившего новое название Большой Петровский театр, состоялось 6 18 января 1825 года. Зрители, пришедшие на церемонию, приветствовали Осипа Бове благодарственными аплодисментам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6" descr="C:\Users\toshiba\Pictures\i (25).jpg"/>
          <p:cNvPicPr/>
          <p:nvPr/>
        </p:nvPicPr>
        <p:blipFill>
          <a:blip r:embed="rId1"/>
          <a:stretch/>
        </p:blipFill>
        <p:spPr>
          <a:xfrm>
            <a:off x="1042920" y="4581360"/>
            <a:ext cx="2886120" cy="20448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7" descr="C:\Users\toshiba\Pictures\i (24).jpg"/>
          <p:cNvPicPr/>
          <p:nvPr/>
        </p:nvPicPr>
        <p:blipFill>
          <a:blip r:embed="rId2"/>
          <a:stretch/>
        </p:blipFill>
        <p:spPr>
          <a:xfrm>
            <a:off x="5724360" y="260280"/>
            <a:ext cx="3143520" cy="214308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8" descr="C:\Users\toshiba\Pictures\i (23).jpg"/>
          <p:cNvPicPr/>
          <p:nvPr/>
        </p:nvPicPr>
        <p:blipFill>
          <a:blip r:embed="rId3"/>
          <a:stretch/>
        </p:blipFill>
        <p:spPr>
          <a:xfrm>
            <a:off x="5580000" y="2349360"/>
            <a:ext cx="3564000" cy="21434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9" descr="C:\Users\toshiba\Pictures\i (26).jpg"/>
          <p:cNvPicPr/>
          <p:nvPr/>
        </p:nvPicPr>
        <p:blipFill>
          <a:blip r:embed="rId4"/>
          <a:stretch/>
        </p:blipFill>
        <p:spPr>
          <a:xfrm>
            <a:off x="5829480" y="4508640"/>
            <a:ext cx="3135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-летний Михаил Лермонтов писал в 1833 году в «Панораме Москвы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...На широкой площади возвышается Петровский театр, произведение новейшего искусства, огромное здание, сделанное по всем правилам вкуса, с плоской кровлей и величественным портиком, на коем возвышается алебастровый Аполлон»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здание горожане называли «Колизей». Проходившие здесь спектакли неизменно имели успех, собирая великосветское московское общество.</a:t>
            </a:r>
            <a:br>
              <a:rPr sz="2800"/>
            </a:br>
            <a:br>
              <a:rPr sz="28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76920" indent="-34416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5" descr="C:\Users\toshiba\Pictures\i (20).jpg"/>
          <p:cNvPicPr/>
          <p:nvPr/>
        </p:nvPicPr>
        <p:blipFill>
          <a:blip r:embed="rId1"/>
          <a:stretch/>
        </p:blipFill>
        <p:spPr>
          <a:xfrm>
            <a:off x="5508720" y="1484280"/>
            <a:ext cx="2157480" cy="2143080"/>
          </a:xfrm>
          <a:prstGeom prst="rect">
            <a:avLst/>
          </a:prstGeom>
          <a:ln w="0">
            <a:noFill/>
          </a:ln>
        </p:spPr>
      </p:pic>
      <p:pic>
        <p:nvPicPr>
          <p:cNvPr id="667" name="i-main-pic" descr="Картинка 51 из 36558"/>
          <p:cNvPicPr/>
          <p:nvPr/>
        </p:nvPicPr>
        <p:blipFill>
          <a:blip r:embed="rId2"/>
          <a:stretch/>
        </p:blipFill>
        <p:spPr>
          <a:xfrm>
            <a:off x="4859280" y="4005360"/>
            <a:ext cx="37450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" descr="H:\конец.jpeg"/>
          <p:cNvPicPr/>
          <p:nvPr/>
        </p:nvPicPr>
        <p:blipFill>
          <a:blip r:embed="rId2"/>
          <a:stretch/>
        </p:blipFill>
        <p:spPr>
          <a:xfrm>
            <a:off x="1785960" y="2286000"/>
            <a:ext cx="51656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Цели и задач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истематизировать сведения о рациональных числах и дать представление об иррациональных числах, расширив тем самым понятие числ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Углубление и систематизация математических знаний и умений по теме: «Арифметический квадратный корень»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ыработать умение выполнять простейшие преобразования выражений, содержащих квадратный корень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оздание прочной базы математических знаний и умений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овторить и вспомнить выражения, содержащие квадратный корень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Вспомни: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Что такое арифметический квадратный корень?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rcRect l="12374" t="38830" r="1721" b="43811"/>
          <a:stretch/>
        </p:blipFill>
        <p:spPr>
          <a:xfrm>
            <a:off x="1500120" y="2214720"/>
            <a:ext cx="5500800" cy="1500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"/>
          <p:cNvPicPr/>
          <p:nvPr/>
        </p:nvPicPr>
        <p:blipFill>
          <a:blip r:embed="rId2"/>
          <a:srcRect l="21004" t="56713" r="3937" b="34376"/>
          <a:stretch/>
        </p:blipFill>
        <p:spPr>
          <a:xfrm>
            <a:off x="1500120" y="3714840"/>
            <a:ext cx="550080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Обозначение квадратного корн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12267" t="66236" r="0" b="7793"/>
          <a:stretch/>
        </p:blipFill>
        <p:spPr>
          <a:xfrm>
            <a:off x="1500120" y="2143080"/>
            <a:ext cx="6080040" cy="2428920"/>
          </a:xfrm>
          <a:prstGeom prst="rect">
            <a:avLst/>
          </a:prstGeom>
          <a:ln w="0">
            <a:noFill/>
          </a:ln>
        </p:spPr>
      </p:pic>
      <p:sp>
        <p:nvSpPr>
          <p:cNvPr id="534" name="Управляющая кнопка: домой 3">
            <a:hlinkClick r:id="rId2" action="ppaction://hlinksldjump"/>
          </p:cNvPr>
          <p:cNvSpPr/>
          <p:nvPr/>
        </p:nvSpPr>
        <p:spPr>
          <a:xfrm>
            <a:off x="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16253" y="3837"/>
                </a:moveTo>
                <a:lnTo>
                  <a:pt x="18829" y="6448"/>
                </a:ln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lnTo>
                  <a:pt x="23216" y="10800"/>
                </a:lnTo>
                <a:lnTo>
                  <a:pt x="21562" y="10800"/>
                </a:lnTo>
                <a:lnTo>
                  <a:pt x="21562" y="17989"/>
                </a:lnTo>
                <a:lnTo>
                  <a:pt x="10944" y="17989"/>
                </a:lnTo>
                <a:lnTo>
                  <a:pt x="10944" y="10800"/>
                </a:lnTo>
                <a:lnTo>
                  <a:pt x="9290" y="10800"/>
                </a:lnTo>
                <a:close/>
              </a:path>
              <a:path fill="darkenLess" w="32506" h="21600">
                <a:moveTo>
                  <a:pt x="18829" y="6448"/>
                </a:moveTo>
                <a:lnTo>
                  <a:pt x="18829" y="4707"/>
                </a:lnTo>
                <a:lnTo>
                  <a:pt x="20605" y="4707"/>
                </a:lnTo>
                <a:lnTo>
                  <a:pt x="20605" y="8224"/>
                </a:lnTo>
                <a:close/>
              </a:path>
              <a:path fill="darkenLess" w="32506" h="21600">
                <a:moveTo>
                  <a:pt x="15330" y="14299"/>
                </a:moveTo>
                <a:lnTo>
                  <a:pt x="17176" y="14299"/>
                </a:lnTo>
                <a:lnTo>
                  <a:pt x="17176" y="17989"/>
                </a:lnTo>
                <a:lnTo>
                  <a:pt x="21562" y="17989"/>
                </a:lnTo>
                <a:lnTo>
                  <a:pt x="21562" y="10800"/>
                </a:lnTo>
                <a:lnTo>
                  <a:pt x="10944" y="10800"/>
                </a:lnTo>
                <a:lnTo>
                  <a:pt x="10944" y="17989"/>
                </a:lnTo>
                <a:lnTo>
                  <a:pt x="15330" y="17989"/>
                </a:lnTo>
                <a:close/>
              </a:path>
            </a:pathLst>
          </a:custGeom>
          <a:solidFill>
            <a:srgbClr val="6ea0b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ействия с корнями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</a:rPr>
              <a:t>Выполни указанные действия с алгебраическими выражениями: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8552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4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 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5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1 ·49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5)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5)=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Скругленная прямоугольная выноска 7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81520" y="5834160"/>
            <a:ext cx="27561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1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роверк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4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·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5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1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2·49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77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7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)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0+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)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45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5) (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-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√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5)=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-4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Управляющая кнопка: далее 3"/>
          <p:cNvGrpSpPr/>
          <p:nvPr/>
        </p:nvGrpSpPr>
        <p:grpSpPr>
          <a:xfrm>
            <a:off x="8259840" y="5973840"/>
            <a:ext cx="976320" cy="976320"/>
            <a:chOff x="8259840" y="5973840"/>
            <a:chExt cx="976320" cy="976320"/>
          </a:xfrm>
        </p:grpSpPr>
        <p:pic>
          <p:nvPicPr>
            <p:cNvPr id="546" name="Управляющая кнопка: далее 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259840" y="5973840"/>
              <a:ext cx="9763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8358120" y="6072120"/>
              <a:ext cx="7858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8" name="Picture 1" descr="C:\Program Files\Microsoft Office\MEDIA\CAGCAT10\j0301252.wmf"/>
          <p:cNvPicPr/>
          <p:nvPr/>
        </p:nvPicPr>
        <p:blipFill>
          <a:blip r:embed="rId2"/>
          <a:stretch/>
        </p:blipFill>
        <p:spPr>
          <a:xfrm>
            <a:off x="6477120" y="1231920"/>
            <a:ext cx="18302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1:42:31Z</dcterms:created>
  <dc:creator>20</dc:creator>
  <dc:description/>
  <dc:language>en-US</dc:language>
  <cp:lastModifiedBy>toshiba</cp:lastModifiedBy>
  <dcterms:modified xsi:type="dcterms:W3CDTF">2013-01-25T21:55:59Z</dcterms:modified>
  <cp:revision>59</cp:revision>
  <dc:subject/>
  <dc:title>Слайд 1</dc:title>
</cp:coreProperties>
</file>